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DD09-97A8-4676-9296-AAFB29E8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B513-CD0F-40E9-85F3-83FFB6EF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175B-0035-4510-86DF-F7B00C6F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9AF5-584F-4B85-AD16-488C6503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2D80-4EAF-4D11-A934-0A998CC7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E4F5-9C9B-4BAF-9CC6-B9B3E85E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DB2A-1E1E-44E8-ADF2-9005CF11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BC3A-C228-4D1E-8392-5B525D1A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DE45-6389-47B8-A6EB-0233CDAE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6B97-3156-4856-B012-66D42C67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D754-4A7D-440F-B271-A32B3372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8DA3-A9E9-4F7F-BD77-19EEA077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A2A5-0123-423A-9E70-30BCD0F0D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aby.ru/goto?url=http%3A%2F%2Fwww.greenmama.ua%2Fimage_show.html%3Furl%3Dimages%2F2009-05%2F22%2F1242972556-shutterstock_97181683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4762440" cy="4743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76720" y="335880"/>
            <a:ext cx="374328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alibri"/>
              </a:rPr>
              <a:t>22 апреля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— не просто большой, а поистине глобальный праздник — </a:t>
            </a:r>
            <a:r>
              <a:rPr b="0" lang="en-US" sz="1600" spc="-1" strike="noStrike">
                <a:solidFill>
                  <a:srgbClr val="000066"/>
                </a:solidFill>
                <a:latin typeface="Calibri"/>
              </a:rPr>
              <a:t>Международный день Матери-Земл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проводимый под эгидой ООН, — день нашего общего уютного дома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5076720" y="1559160"/>
            <a:ext cx="374328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Традиция отмечать 22 апреля День Земли зародилась в США в 1970 году, в 1990 году этот день стал международной акцией. В России его отмечают с 1992 год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5076720" y="2568960"/>
            <a:ext cx="374328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 северном полушарии День Земли отмечается весной, а в Южном полушарии — осенью. Основной целью этой всемирной акции является привлечение внимания общества и каждого человека планеты к проблемам Земли, к проблемам ее окружающей среды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5003640" y="4296960"/>
            <a:ext cx="3737160" cy="19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 России традиционно Международный день Земли считается днем общественных организаций, которые проводят в этот день различные экологические мероприятия и акции. В этот день все желающие могут принять участие в благоустройстве и озеленении своих дворов и улиц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00000" y="1268280"/>
            <a:ext cx="751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оза — древнейший цветок, сопровождающий человека. Аромат розы — наверное, самый известный из ароматов любви. Роза — сложный цветок для выращивания, но если у вас получится, то она привнесет в ваш дом спокойствие, уют и гармонию.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904680" y="2636280"/>
            <a:ext cx="66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 незапамятных времен роза стала предметом садовой культуры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906480" y="2348640"/>
            <a:ext cx="53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 Греции также относились к розе, как к дару богов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3781440" y="47628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195640" y="2924280"/>
            <a:ext cx="453528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780000" y="1557360"/>
            <a:ext cx="514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омашки любимы многими народами, но наибольшую любовь снискали они в России. По преданию, ромашка вырастает там, где падает звезда с неба. неб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У этого цветка много других названий: поповник, нивяник, белоголовник, солнечник, белюшка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3934080"/>
            <a:ext cx="7480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 еще ромашки похожи на удивленные глаза. Если в сухой ветреный день выйти на луг и внимательно прислушаться, то можно услышать тихий шорох,- это шорох белых ромашковых ресниц. Удивленные глаза ромашки целых семь месяцев - с апреля до сентября - смотрят в небо, стараясь понять движение облаков, звезд и планет. Смотрят-смотрят, утомятся, вот тогда-то и начинают моргать своими белыми ресницами. Кажется, наклонись к цветку, и он поведает тебе самые сокровенные тайны. А тайн у ромашки великое множество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3205440" cy="2403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628360" y="47952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омаш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2" descr="138.jpg"/>
          <p:cNvPicPr/>
          <p:nvPr/>
        </p:nvPicPr>
        <p:blipFill>
          <a:blip r:embed="rId2"/>
          <a:stretch/>
        </p:blipFill>
        <p:spPr>
          <a:xfrm>
            <a:off x="4356000" y="1413000"/>
            <a:ext cx="4114800" cy="30477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3" descr="405.jpg"/>
          <p:cNvPicPr/>
          <p:nvPr/>
        </p:nvPicPr>
        <p:blipFill>
          <a:blip r:embed="rId3"/>
          <a:stretch/>
        </p:blipFill>
        <p:spPr>
          <a:xfrm>
            <a:off x="2627280" y="4076640"/>
            <a:ext cx="3821040" cy="2438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7600" y="549360"/>
            <a:ext cx="74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1f1f"/>
                </a:solidFill>
                <a:latin typeface="Calibri"/>
              </a:rPr>
              <a:t>Редкие животные которые занесены в красную книг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11" descr="1072.jpg"/>
          <p:cNvPicPr/>
          <p:nvPr/>
        </p:nvPicPr>
        <p:blipFill>
          <a:blip r:embed="rId4"/>
          <a:stretch/>
        </p:blipFill>
        <p:spPr>
          <a:xfrm>
            <a:off x="395280" y="1341360"/>
            <a:ext cx="4292640" cy="3164040"/>
          </a:xfrm>
          <a:prstGeom prst="rect">
            <a:avLst/>
          </a:prstGeom>
          <a:ln w="0">
            <a:noFill/>
          </a:ln>
        </p:spPr>
      </p:pic>
      <p:sp>
        <p:nvSpPr>
          <p:cNvPr id="83" name="TextBox 8"/>
          <p:cNvSpPr/>
          <p:nvPr/>
        </p:nvSpPr>
        <p:spPr>
          <a:xfrm rot="20762400">
            <a:off x="993240" y="134100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Снежный бар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9"/>
          <p:cNvSpPr/>
          <p:nvPr/>
        </p:nvSpPr>
        <p:spPr>
          <a:xfrm rot="700200">
            <a:off x="6276600" y="13413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Тиг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4059360" y="37893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Зуб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 rot="20761800">
            <a:off x="684000" y="907560"/>
            <a:ext cx="2950920" cy="2213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20704800">
            <a:off x="828000" y="62028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о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771640" y="3500280"/>
            <a:ext cx="3384720" cy="2691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069080" y="299736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ы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 rot="783600">
            <a:off x="5970600" y="619200"/>
            <a:ext cx="24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еверные олен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 rot="807600">
            <a:off x="5148000" y="980640"/>
            <a:ext cx="352908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419640" y="3645000"/>
            <a:ext cx="2234880" cy="2663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947680" y="3283560"/>
            <a:ext cx="28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олярный медведь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 rot="20577600">
            <a:off x="1476360" y="980280"/>
            <a:ext cx="72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Боб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20565000">
            <a:off x="899640" y="1267920"/>
            <a:ext cx="3025800" cy="2270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 rot="902400">
            <a:off x="5292360" y="1125000"/>
            <a:ext cx="3168720" cy="2376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rot="786600">
            <a:off x="7165440" y="76464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Ё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496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128600" y="765000"/>
            <a:ext cx="6886800" cy="309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Берегите Землю!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943600" cy="612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227640" y="801720"/>
            <a:ext cx="255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ы речь свою ведё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 т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Что вся Земля- наш общий д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аш добрый дом, Просторный дом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ы все с рожденья     в нём живё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Ещё о том ведём мы речь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Что мы должны         наш дом сбереч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авайте докажем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что не зр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а нас надее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емля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908000" y="333360"/>
            <a:ext cx="47926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ес- наше богатство</a:t>
            </a:r>
            <a:endParaRPr b="0" i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496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8496000" cy="5832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4000" y="31824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Calibri"/>
              </a:rPr>
              <a:t>      </a:t>
            </a:r>
            <a:r>
              <a:rPr b="1" i="1" lang="en-US" sz="2000" spc="-1" strike="noStrike">
                <a:solidFill>
                  <a:srgbClr val="000066"/>
                </a:solidFill>
                <a:latin typeface="Calibri"/>
              </a:rPr>
              <a:t>Вода необходима для жизнедеятельности всех живых организм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654440" cy="6205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375240" y="55080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анды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5508720" y="1052640"/>
            <a:ext cx="331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Ландыш – необыкновенно красивое корневищное растение. Ценится прежде всего за красоту мелких колокольчатых цветков, собранных в поникающее кистевидное соцветие и обладающих сильным ароматом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357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ежные, утонченные ландыши давно стали символом весны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65800" y="33480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одснеж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1125360" y="765000"/>
            <a:ext cx="61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дснежникам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е страшны ни снег, ни весенние заморозки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1048320" y="1052640"/>
            <a:ext cx="52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ни одними из первых цветут весной в саду и лесу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1118520" y="1341360"/>
            <a:ext cx="65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 европейской культуре подснежник символизировал надежду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835280" y="1628640"/>
            <a:ext cx="52084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242640"/>
            <a:ext cx="667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дуванч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Лишь только солнце пригреет весной землю, среди первой зелени появляются яркие золотисто-жёлтые корзиночки одуванчиков. Они словно многочисленные дети солнца спускаются на землю и покрывают её сияющим ковром. И ковер этот еще очень полезный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 древних времён одуванчик используют в лечебных целях и называют «эликсиром жизни»: все части этого полезного растения – и корни, и листья, и цветки – имеют целебные свойства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Calibri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635280" y="3141720"/>
            <a:ext cx="41054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5543280" cy="4162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867280" y="334080"/>
            <a:ext cx="2578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 России незабудку  называют горлянка, лихорадочная трава, пригожница. Разные народы складывают свои легенды об этом цветке, но почему-то в разных странах все они связаны с понятием о верности, доброй памяти.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2413080" y="100692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ЕЗАБУД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3358440"/>
            <a:ext cx="2894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Ее считают также колдовской травой: венок из незабудок, надетый на шею любимому человеку или возложенный ему слева на грудь, где бьется сердце, привораживает его и держит крепче всяких цепей. Такую же силу приписывают и корням растения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836720" y="69120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УВШИНКА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342360"/>
            <a:ext cx="356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воё название кувшинка получила по имени одной из водяных нимф. В славянских сказках представление о кувшинках связывается с загадочным образом русалки. Скандинавские легенды говорят, что у каждой кувшинки есть свой друг - эльф, который вместе с ней рождается, вместе с ней и умирает. Согласно древнегреческим мифам, кувшинка была когда-то белой нимфой, но потом она погибла от любви к остававшемуся к ней равнодушным Геркулесу и превратилась в прекрасный цветок. Кувшинку-нимфею также называют “дитя солнца”: ее прекрасные цветки раскрываются утром и закрываются с наступлением сумерек.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453528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6T06:54:40Z</dcterms:created>
  <dc:creator>Пользователь</dc:creator>
  <dc:description/>
  <dc:language>en-US</dc:language>
  <cp:lastModifiedBy>Пользователь</cp:lastModifiedBy>
  <dcterms:modified xsi:type="dcterms:W3CDTF">2015-02-15T13:05:03Z</dcterms:modified>
  <cp:revision>12</cp:revision>
  <dc:subject/>
  <dc:title>Слайд 1</dc:title>
</cp:coreProperties>
</file>