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38.jpeg" ContentType="image/jpeg"/>
  <Override PartName="/ppt/media/image7.jpeg" ContentType="image/jpeg"/>
  <Override PartName="/ppt/media/image51.jpeg" ContentType="image/jpeg"/>
  <Override PartName="/ppt/media/image50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5.jpeg" ContentType="image/jpeg"/>
  <Override PartName="/ppt/media/image1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55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58.gif" ContentType="image/gif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23.png" ContentType="image/png"/>
  <Override PartName="/ppt/media/image53.jpeg" ContentType="image/jpeg"/>
  <Override PartName="/ppt/media/image54.jpeg" ContentType="image/jpeg"/>
  <Override PartName="/ppt/media/image56.jpeg" ContentType="image/jpeg"/>
  <Override PartName="/ppt/media/image57.jpeg" ContentType="image/jpeg"/>
  <Override PartName="/ppt/media/image59.jpeg" ContentType="image/jpeg"/>
  <Override PartName="/ppt/media/image42.jpeg" ContentType="image/jpeg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dt" idx="19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20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 type="sldNum" idx="21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7AC372-A3B8-4B4A-B033-00EC507ED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039444-E0ED-4D18-958E-7C192EE04E5A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A5DC-6B75-4786-9E40-6326618C0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D8BD-7C90-4573-95D5-E1D20E06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8313-6BE8-4A45-9ABE-3667D7EBC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D7B8-4E04-498E-98CF-CD4A49D7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CA7F-2479-43C3-AFDE-7405F696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E502-2101-4006-A3DF-1C22C04A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2929-5D53-406F-BB10-7097D425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119D-6EE1-45D9-94C4-F37E7296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40E3-E2A5-4E92-8407-2BB29717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E048-BE92-43CC-BB76-83CD2F54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82F5-55E8-49F1-BE06-12C0063F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504D-285A-4B67-8D62-392E33CE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E680-29B1-4362-9053-B93CB1A4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17CE-5E46-4D8D-B53C-187640A2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0173-00AF-420A-AE11-6341C684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C314-CE29-4272-B172-33FEDAE3F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CAB5-94E9-4AE2-9F78-A078E1AEB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69159-F919-40DB-8E06-8929F46F2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1EBD2-974C-42BB-87EE-F55A6744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88BD9-D208-4A8F-AD99-0DC0D8AE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E518B-D97A-463E-A000-1A8BF9CB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F541E-4ABC-4899-99DB-8E95B36B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E22A-0948-4C3E-8EC6-B678B109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846FF-3EF9-452F-9486-D62155E2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25485-03EE-4C45-AEAF-CBB1C78B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D0031-D0D8-45AA-B6A4-68AC0C7E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462DD-0D84-4B28-944E-DA9BFAE4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50403-3068-45A8-A1F7-48390598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E8611-1002-46F2-8BE9-4375CE4EB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9C9E6-B5D1-42BB-BAB2-7692BEDB3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084BE-0DF6-476C-B247-3FD58E69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22F06-D13E-40AC-9C6C-17881E0C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0E750-DD96-4F7E-86C7-24B224A8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2392-A92C-4180-96C2-21A45A6E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23280-0E0F-4574-8F8F-7EB40A8D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18329-845B-4C86-B73B-11FFEB09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A434C-CCEA-46E9-B433-4DC3EC80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1C04F-51BC-4091-8BF3-B196AD6A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CDC8B-C37E-4ACB-B53D-F9AFFDE4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4D604-8A3C-439B-94FA-8CDBF470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29A8A-08F6-42DA-BE8C-58122E38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C13D9-65AE-4B18-B31A-B52787A76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E7876-47FB-4C73-A6EF-BE368A5F1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58037-CA38-44A1-A41C-A43ADBE4A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55F9-251E-4008-AB5E-B34053DF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1A6CE-CC19-494A-A564-BF387B55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F0E31-571C-47BF-932E-0A5B57BD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A0EB2-25C9-4D06-9B66-320FE2E6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ABA9A-CA3E-4419-913F-5D682608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D5688-F8E6-4BB9-AF5B-56F02366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7DA7E-BF82-478C-B0E1-F902F203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04566-77F3-49C9-BB50-C5EA22CF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6BE5F-91A8-4F9F-AEDA-469D0861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16729-E74D-4133-8CC3-C9A38ED2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B37EE-68D2-4066-BDE2-FD79FEB76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2D8E-FE91-4E07-A236-EC33DA7B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EDE3F-0849-483F-A7A2-4C404BC9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CBED9-3839-4595-9C29-717F4775B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BABA3-FB7E-426B-AD67-155E6431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88867-2399-4746-B1B3-F87C457B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E0B40-A0F0-4027-9D2D-81FDCDC4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EBBD1-B5C7-467F-AA4A-8A8982BD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597C7-910A-4BFA-9E6A-C71B2395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04ECD-F047-4FF4-A6B9-4C0E6B66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2DE4A-CC6A-4E2A-89D5-0B96F341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0DFB3-7238-43A9-AC3A-ADAD932D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24D5-10C5-4682-A227-1560D294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484FB-2FAC-4A9B-B0D5-C2A60C37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03295-2823-4F3D-AD61-3B0C2E9A5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152F6-6E07-4F24-8FF9-07C1F3C08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E1AF-E9ED-443A-A624-7798F0B6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9503-99DD-466A-B445-9E134ECF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200" cy="2949120"/>
            <a:chOff x="0" y="3902040"/>
            <a:chExt cx="3400200" cy="294912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200" cy="2863440"/>
            </a:xfrm>
            <a:custGeom>
              <a:avLst/>
              <a:gdLst>
                <a:gd name="textAreaLeft" fmla="*/ 0 w 3400200"/>
                <a:gd name="textAreaRight" fmla="*/ 3400560 w 3400200"/>
                <a:gd name="textAreaTop" fmla="*/ 0 h 2863440"/>
                <a:gd name="textAreaBottom" fmla="*/ 2863800 h 286344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000" cy="2949120"/>
            </a:xfrm>
            <a:custGeom>
              <a:avLst/>
              <a:gdLst>
                <a:gd name="textAreaLeft" fmla="*/ 0 w 2943000"/>
                <a:gd name="textAreaRight" fmla="*/ 2943360 w 2943000"/>
                <a:gd name="textAreaTop" fmla="*/ 0 h 2949120"/>
                <a:gd name="textAreaBottom" fmla="*/ 2949480 h 294912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69840" cy="2503080"/>
            </a:xfrm>
            <a:custGeom>
              <a:avLst/>
              <a:gdLst>
                <a:gd name="textAreaLeft" fmla="*/ 0 w 2769840"/>
                <a:gd name="textAreaRight" fmla="*/ 2770200 w 2769840"/>
                <a:gd name="textAreaTop" fmla="*/ 0 h 2503080"/>
                <a:gd name="textAreaBottom" fmla="*/ 2503440 h 250308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69840" cy="2806200"/>
            </a:xfrm>
            <a:custGeom>
              <a:avLst/>
              <a:gdLst>
                <a:gd name="textAreaLeft" fmla="*/ 0 w 2769840"/>
                <a:gd name="textAreaRight" fmla="*/ 2770200 w 2769840"/>
                <a:gd name="textAreaTop" fmla="*/ 0 h 2806200"/>
                <a:gd name="textAreaBottom" fmla="*/ 2806560 h 280620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080" cy="1360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5800" cy="14580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188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6E3B54-595E-464B-97D3-28D271E7E47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200" cy="2949120"/>
            <a:chOff x="0" y="3902040"/>
            <a:chExt cx="3400200" cy="294912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200" cy="2863440"/>
            </a:xfrm>
            <a:custGeom>
              <a:avLst/>
              <a:gdLst>
                <a:gd name="textAreaLeft" fmla="*/ 0 w 3400200"/>
                <a:gd name="textAreaRight" fmla="*/ 3400560 w 3400200"/>
                <a:gd name="textAreaTop" fmla="*/ 0 h 2863440"/>
                <a:gd name="textAreaBottom" fmla="*/ 2863800 h 286344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000" cy="2949120"/>
            </a:xfrm>
            <a:custGeom>
              <a:avLst/>
              <a:gdLst>
                <a:gd name="textAreaLeft" fmla="*/ 0 w 2943000"/>
                <a:gd name="textAreaRight" fmla="*/ 2943360 w 2943000"/>
                <a:gd name="textAreaTop" fmla="*/ 0 h 2949120"/>
                <a:gd name="textAreaBottom" fmla="*/ 2949480 h 294912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69840" cy="2503080"/>
            </a:xfrm>
            <a:custGeom>
              <a:avLst/>
              <a:gdLst>
                <a:gd name="textAreaLeft" fmla="*/ 0 w 2769840"/>
                <a:gd name="textAreaRight" fmla="*/ 2770200 w 2769840"/>
                <a:gd name="textAreaTop" fmla="*/ 0 h 2503080"/>
                <a:gd name="textAreaBottom" fmla="*/ 2503440 h 250308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69840" cy="2806200"/>
            </a:xfrm>
            <a:custGeom>
              <a:avLst/>
              <a:gdLst>
                <a:gd name="textAreaLeft" fmla="*/ 0 w 2769840"/>
                <a:gd name="textAreaRight" fmla="*/ 2770200 w 2769840"/>
                <a:gd name="textAreaTop" fmla="*/ 0 h 2806200"/>
                <a:gd name="textAreaBottom" fmla="*/ 2806560 h 280620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080" cy="1360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5800" cy="14580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188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5A9341-E5BD-456F-AF2F-3C2B39C0A73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3902040"/>
            <a:ext cx="3400200" cy="2949120"/>
            <a:chOff x="0" y="3902040"/>
            <a:chExt cx="3400200" cy="2949120"/>
          </a:xfrm>
        </p:grpSpPr>
        <p:sp>
          <p:nvSpPr>
            <p:cNvPr id="99" name="Freeform 3"/>
            <p:cNvSpPr/>
            <p:nvPr/>
          </p:nvSpPr>
          <p:spPr>
            <a:xfrm>
              <a:off x="0" y="3981600"/>
              <a:ext cx="3400200" cy="2863440"/>
            </a:xfrm>
            <a:custGeom>
              <a:avLst/>
              <a:gdLst>
                <a:gd name="textAreaLeft" fmla="*/ 0 w 3400200"/>
                <a:gd name="textAreaRight" fmla="*/ 3400560 w 3400200"/>
                <a:gd name="textAreaTop" fmla="*/ 0 h 2863440"/>
                <a:gd name="textAreaBottom" fmla="*/ 2863800 h 286344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0" y="3902040"/>
              <a:ext cx="2943000" cy="2949120"/>
            </a:xfrm>
            <a:custGeom>
              <a:avLst/>
              <a:gdLst>
                <a:gd name="textAreaLeft" fmla="*/ 0 w 2943000"/>
                <a:gd name="textAreaRight" fmla="*/ 2943360 w 2943000"/>
                <a:gd name="textAreaTop" fmla="*/ 0 h 2949120"/>
                <a:gd name="textAreaBottom" fmla="*/ 2949480 h 294912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0" y="4341960"/>
              <a:ext cx="2769840" cy="2503080"/>
            </a:xfrm>
            <a:custGeom>
              <a:avLst/>
              <a:gdLst>
                <a:gd name="textAreaLeft" fmla="*/ 0 w 2769840"/>
                <a:gd name="textAreaRight" fmla="*/ 2770200 w 2769840"/>
                <a:gd name="textAreaTop" fmla="*/ 0 h 2503080"/>
                <a:gd name="textAreaBottom" fmla="*/ 2503440 h 250308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0" y="4038480"/>
              <a:ext cx="2769840" cy="2806200"/>
            </a:xfrm>
            <a:custGeom>
              <a:avLst/>
              <a:gdLst>
                <a:gd name="textAreaLeft" fmla="*/ 0 w 2769840"/>
                <a:gd name="textAreaRight" fmla="*/ 2770200 w 2769840"/>
                <a:gd name="textAreaTop" fmla="*/ 0 h 2806200"/>
                <a:gd name="textAreaBottom" fmla="*/ 2806560 h 280620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7"/>
            <p:cNvSpPr/>
            <p:nvPr/>
          </p:nvSpPr>
          <p:spPr>
            <a:xfrm>
              <a:off x="331920" y="4419720"/>
              <a:ext cx="136080" cy="1360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8"/>
            <p:cNvSpPr/>
            <p:nvPr/>
          </p:nvSpPr>
          <p:spPr>
            <a:xfrm>
              <a:off x="2438280" y="6165720"/>
              <a:ext cx="145800" cy="14580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9"/>
            <p:cNvSpPr/>
            <p:nvPr/>
          </p:nvSpPr>
          <p:spPr>
            <a:xfrm>
              <a:off x="1255680" y="4322880"/>
              <a:ext cx="19188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 anchorCtr="1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Образец заголовка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cc"/>
              </a:buClr>
              <a:buSzPct val="7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7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666699"/>
              </a:buClr>
              <a:buSzPct val="7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cc66"/>
              </a:buClr>
              <a:buSzPct val="7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body"/>
          </p:nvPr>
        </p:nvSpPr>
        <p:spPr>
          <a:xfrm>
            <a:off x="457200" y="1434960"/>
            <a:ext cx="3007800" cy="4690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dt" idx="7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0945C9-EC7D-4CC3-803F-E8A7691D835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0" y="3902040"/>
            <a:ext cx="3400200" cy="2949120"/>
            <a:chOff x="0" y="3902040"/>
            <a:chExt cx="3400200" cy="2949120"/>
          </a:xfrm>
        </p:grpSpPr>
        <p:sp>
          <p:nvSpPr>
            <p:cNvPr id="149" name="Freeform 3"/>
            <p:cNvSpPr/>
            <p:nvPr/>
          </p:nvSpPr>
          <p:spPr>
            <a:xfrm>
              <a:off x="0" y="3981600"/>
              <a:ext cx="3400200" cy="2863440"/>
            </a:xfrm>
            <a:custGeom>
              <a:avLst/>
              <a:gdLst>
                <a:gd name="textAreaLeft" fmla="*/ 0 w 3400200"/>
                <a:gd name="textAreaRight" fmla="*/ 3400560 w 3400200"/>
                <a:gd name="textAreaTop" fmla="*/ 0 h 2863440"/>
                <a:gd name="textAreaBottom" fmla="*/ 2863800 h 286344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4"/>
            <p:cNvSpPr/>
            <p:nvPr/>
          </p:nvSpPr>
          <p:spPr>
            <a:xfrm>
              <a:off x="0" y="3902040"/>
              <a:ext cx="2943000" cy="2949120"/>
            </a:xfrm>
            <a:custGeom>
              <a:avLst/>
              <a:gdLst>
                <a:gd name="textAreaLeft" fmla="*/ 0 w 2943000"/>
                <a:gd name="textAreaRight" fmla="*/ 2943360 w 2943000"/>
                <a:gd name="textAreaTop" fmla="*/ 0 h 2949120"/>
                <a:gd name="textAreaBottom" fmla="*/ 2949480 h 294912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5"/>
            <p:cNvSpPr/>
            <p:nvPr/>
          </p:nvSpPr>
          <p:spPr>
            <a:xfrm>
              <a:off x="0" y="4341960"/>
              <a:ext cx="2769840" cy="2503080"/>
            </a:xfrm>
            <a:custGeom>
              <a:avLst/>
              <a:gdLst>
                <a:gd name="textAreaLeft" fmla="*/ 0 w 2769840"/>
                <a:gd name="textAreaRight" fmla="*/ 2770200 w 2769840"/>
                <a:gd name="textAreaTop" fmla="*/ 0 h 2503080"/>
                <a:gd name="textAreaBottom" fmla="*/ 2503440 h 250308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6"/>
            <p:cNvSpPr/>
            <p:nvPr/>
          </p:nvSpPr>
          <p:spPr>
            <a:xfrm>
              <a:off x="0" y="4038480"/>
              <a:ext cx="2769840" cy="2806200"/>
            </a:xfrm>
            <a:custGeom>
              <a:avLst/>
              <a:gdLst>
                <a:gd name="textAreaLeft" fmla="*/ 0 w 2769840"/>
                <a:gd name="textAreaRight" fmla="*/ 2770200 w 2769840"/>
                <a:gd name="textAreaTop" fmla="*/ 0 h 2806200"/>
                <a:gd name="textAreaBottom" fmla="*/ 2806560 h 280620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7"/>
            <p:cNvSpPr/>
            <p:nvPr/>
          </p:nvSpPr>
          <p:spPr>
            <a:xfrm>
              <a:off x="331920" y="4419720"/>
              <a:ext cx="136080" cy="1360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8"/>
            <p:cNvSpPr/>
            <p:nvPr/>
          </p:nvSpPr>
          <p:spPr>
            <a:xfrm>
              <a:off x="2438280" y="6165720"/>
              <a:ext cx="145800" cy="14580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9"/>
            <p:cNvSpPr/>
            <p:nvPr/>
          </p:nvSpPr>
          <p:spPr>
            <a:xfrm>
              <a:off x="1255680" y="4322880"/>
              <a:ext cx="19188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cc"/>
              </a:buClr>
              <a:buSzPct val="7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b2b2b2"/>
              </a:buClr>
              <a:buSzPct val="7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666699"/>
              </a:buClr>
              <a:buSzPct val="7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cc66"/>
              </a:buClr>
              <a:buSzPct val="7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F2FC38-89A6-49F6-8F92-9F33EA265F1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0" y="3902040"/>
            <a:ext cx="3400200" cy="2949120"/>
            <a:chOff x="0" y="3902040"/>
            <a:chExt cx="3400200" cy="2949120"/>
          </a:xfrm>
        </p:grpSpPr>
        <p:sp>
          <p:nvSpPr>
            <p:cNvPr id="198" name="Freeform 3"/>
            <p:cNvSpPr/>
            <p:nvPr/>
          </p:nvSpPr>
          <p:spPr>
            <a:xfrm>
              <a:off x="0" y="3981600"/>
              <a:ext cx="3400200" cy="2863440"/>
            </a:xfrm>
            <a:custGeom>
              <a:avLst/>
              <a:gdLst>
                <a:gd name="textAreaLeft" fmla="*/ 0 w 3400200"/>
                <a:gd name="textAreaRight" fmla="*/ 3400560 w 3400200"/>
                <a:gd name="textAreaTop" fmla="*/ 0 h 2863440"/>
                <a:gd name="textAreaBottom" fmla="*/ 2863800 h 286344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4"/>
            <p:cNvSpPr/>
            <p:nvPr/>
          </p:nvSpPr>
          <p:spPr>
            <a:xfrm>
              <a:off x="0" y="3902040"/>
              <a:ext cx="2943000" cy="2949120"/>
            </a:xfrm>
            <a:custGeom>
              <a:avLst/>
              <a:gdLst>
                <a:gd name="textAreaLeft" fmla="*/ 0 w 2943000"/>
                <a:gd name="textAreaRight" fmla="*/ 2943360 w 2943000"/>
                <a:gd name="textAreaTop" fmla="*/ 0 h 2949120"/>
                <a:gd name="textAreaBottom" fmla="*/ 2949480 h 294912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5"/>
            <p:cNvSpPr/>
            <p:nvPr/>
          </p:nvSpPr>
          <p:spPr>
            <a:xfrm>
              <a:off x="0" y="4341960"/>
              <a:ext cx="2769840" cy="2503080"/>
            </a:xfrm>
            <a:custGeom>
              <a:avLst/>
              <a:gdLst>
                <a:gd name="textAreaLeft" fmla="*/ 0 w 2769840"/>
                <a:gd name="textAreaRight" fmla="*/ 2770200 w 2769840"/>
                <a:gd name="textAreaTop" fmla="*/ 0 h 2503080"/>
                <a:gd name="textAreaBottom" fmla="*/ 2503440 h 250308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6"/>
            <p:cNvSpPr/>
            <p:nvPr/>
          </p:nvSpPr>
          <p:spPr>
            <a:xfrm>
              <a:off x="0" y="4038480"/>
              <a:ext cx="2769840" cy="2806200"/>
            </a:xfrm>
            <a:custGeom>
              <a:avLst/>
              <a:gdLst>
                <a:gd name="textAreaLeft" fmla="*/ 0 w 2769840"/>
                <a:gd name="textAreaRight" fmla="*/ 2770200 w 2769840"/>
                <a:gd name="textAreaTop" fmla="*/ 0 h 2806200"/>
                <a:gd name="textAreaBottom" fmla="*/ 2806560 h 280620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7"/>
            <p:cNvSpPr/>
            <p:nvPr/>
          </p:nvSpPr>
          <p:spPr>
            <a:xfrm>
              <a:off x="331920" y="4419720"/>
              <a:ext cx="136080" cy="1360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8"/>
            <p:cNvSpPr/>
            <p:nvPr/>
          </p:nvSpPr>
          <p:spPr>
            <a:xfrm>
              <a:off x="2438280" y="6165720"/>
              <a:ext cx="145800" cy="14580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9"/>
            <p:cNvSpPr/>
            <p:nvPr/>
          </p:nvSpPr>
          <p:spPr>
            <a:xfrm>
              <a:off x="1255680" y="4322880"/>
              <a:ext cx="19188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7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666699"/>
              </a:buClr>
              <a:buSzPct val="7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cc66"/>
              </a:buClr>
              <a:buSzPct val="7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SzPct val="7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7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666699"/>
              </a:buClr>
              <a:buSzPct val="7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cc66"/>
              </a:buClr>
              <a:buSzPct val="7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SzPct val="7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dt" idx="13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B3366D-6B31-4479-BC00-834CAB7E346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2"/>
          <p:cNvGrpSpPr/>
          <p:nvPr/>
        </p:nvGrpSpPr>
        <p:grpSpPr>
          <a:xfrm>
            <a:off x="0" y="3902040"/>
            <a:ext cx="3400200" cy="2949120"/>
            <a:chOff x="0" y="3902040"/>
            <a:chExt cx="3400200" cy="2949120"/>
          </a:xfrm>
        </p:grpSpPr>
        <p:sp>
          <p:nvSpPr>
            <p:cNvPr id="248" name="Freeform 3"/>
            <p:cNvSpPr/>
            <p:nvPr/>
          </p:nvSpPr>
          <p:spPr>
            <a:xfrm>
              <a:off x="0" y="3981600"/>
              <a:ext cx="3400200" cy="2863440"/>
            </a:xfrm>
            <a:custGeom>
              <a:avLst/>
              <a:gdLst>
                <a:gd name="textAreaLeft" fmla="*/ 0 w 3400200"/>
                <a:gd name="textAreaRight" fmla="*/ 3400560 w 3400200"/>
                <a:gd name="textAreaTop" fmla="*/ 0 h 2863440"/>
                <a:gd name="textAreaBottom" fmla="*/ 2863800 h 286344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4"/>
            <p:cNvSpPr/>
            <p:nvPr/>
          </p:nvSpPr>
          <p:spPr>
            <a:xfrm>
              <a:off x="0" y="3902040"/>
              <a:ext cx="2943000" cy="2949120"/>
            </a:xfrm>
            <a:custGeom>
              <a:avLst/>
              <a:gdLst>
                <a:gd name="textAreaLeft" fmla="*/ 0 w 2943000"/>
                <a:gd name="textAreaRight" fmla="*/ 2943360 w 2943000"/>
                <a:gd name="textAreaTop" fmla="*/ 0 h 2949120"/>
                <a:gd name="textAreaBottom" fmla="*/ 2949480 h 294912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5"/>
            <p:cNvSpPr/>
            <p:nvPr/>
          </p:nvSpPr>
          <p:spPr>
            <a:xfrm>
              <a:off x="0" y="4341960"/>
              <a:ext cx="2769840" cy="2503080"/>
            </a:xfrm>
            <a:custGeom>
              <a:avLst/>
              <a:gdLst>
                <a:gd name="textAreaLeft" fmla="*/ 0 w 2769840"/>
                <a:gd name="textAreaRight" fmla="*/ 2770200 w 2769840"/>
                <a:gd name="textAreaTop" fmla="*/ 0 h 2503080"/>
                <a:gd name="textAreaBottom" fmla="*/ 2503440 h 250308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6"/>
            <p:cNvSpPr/>
            <p:nvPr/>
          </p:nvSpPr>
          <p:spPr>
            <a:xfrm>
              <a:off x="0" y="4038480"/>
              <a:ext cx="2769840" cy="2806200"/>
            </a:xfrm>
            <a:custGeom>
              <a:avLst/>
              <a:gdLst>
                <a:gd name="textAreaLeft" fmla="*/ 0 w 2769840"/>
                <a:gd name="textAreaRight" fmla="*/ 2770200 w 2769840"/>
                <a:gd name="textAreaTop" fmla="*/ 0 h 2806200"/>
                <a:gd name="textAreaBottom" fmla="*/ 2806560 h 280620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Oval 7"/>
            <p:cNvSpPr/>
            <p:nvPr/>
          </p:nvSpPr>
          <p:spPr>
            <a:xfrm>
              <a:off x="331920" y="4419720"/>
              <a:ext cx="136080" cy="1360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Oval 8"/>
            <p:cNvSpPr/>
            <p:nvPr/>
          </p:nvSpPr>
          <p:spPr>
            <a:xfrm>
              <a:off x="2438280" y="6165720"/>
              <a:ext cx="145800" cy="14580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Oval 9"/>
            <p:cNvSpPr/>
            <p:nvPr/>
          </p:nvSpPr>
          <p:spPr>
            <a:xfrm>
              <a:off x="1255680" y="4322880"/>
              <a:ext cx="19188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7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666699"/>
              </a:buClr>
              <a:buSzPct val="7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ffcc66"/>
              </a:buClr>
              <a:buSzPct val="7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SzPct val="7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7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666699"/>
              </a:buClr>
              <a:buSzPct val="7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ffcc66"/>
              </a:buClr>
              <a:buSzPct val="7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SzPct val="7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dt" idx="16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8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CCD60D-CB48-4BB1-B722-01AB632F678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5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gif"/><Relationship Id="rId4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87280" y="476280"/>
            <a:ext cx="6913080" cy="1301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6000" spc="-1" strike="noStrike">
                <a:solidFill>
                  <a:srgbClr val="b2b2b2"/>
                </a:solidFill>
                <a:latin typeface="Arial"/>
              </a:rPr>
              <a:t>«Космос детям»</a:t>
            </a:r>
            <a:endParaRPr b="0" lang="ru-RU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Picture 3" descr="C:\Users\Инна\Pictures\космонавт4.jpg"/>
          <p:cNvPicPr/>
          <p:nvPr/>
        </p:nvPicPr>
        <p:blipFill>
          <a:blip r:embed="rId1"/>
          <a:srcRect l="0" t="0" r="964" b="1200"/>
          <a:stretch/>
        </p:blipFill>
        <p:spPr>
          <a:xfrm>
            <a:off x="4643280" y="1773360"/>
            <a:ext cx="4249440" cy="4824000"/>
          </a:xfrm>
          <a:prstGeom prst="rect">
            <a:avLst/>
          </a:prstGeom>
          <a:ln w="9525">
            <a:noFill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7560"/>
            <a:ext cx="3968280" cy="4142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ь: </a:t>
            </a: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Активизировать и стимулировать речемыслительную деятельность детей , используя презентацию занятия: «Космос детям».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C:\Users\Инна\Pictures\untitled.png"/>
          <p:cNvPicPr/>
          <p:nvPr/>
        </p:nvPicPr>
        <p:blipFill>
          <a:blip r:embed="rId1"/>
          <a:stretch/>
        </p:blipFill>
        <p:spPr>
          <a:xfrm>
            <a:off x="1194840" y="743400"/>
            <a:ext cx="7948800" cy="61142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7930800" cy="41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b2b2b2"/>
                </a:solidFill>
                <a:latin typeface="Arial"/>
              </a:rPr>
              <a:t>9. Большая часть Земли покрыта водой.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900000" y="5949360"/>
            <a:ext cx="7920000" cy="908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0. Планета Земля – лишь пылинка в огромном черном космосе. 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ланета не стоит на месте - она вращается вокруг своей оси и одновременно осуществляет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вижение вокруг Солнца.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4" descr="C:\Users\Инна\Pictures\Новая папка\Рисунок5.jpg"/>
          <p:cNvPicPr/>
          <p:nvPr/>
        </p:nvPicPr>
        <p:blipFill>
          <a:blip r:embed="rId1"/>
          <a:stretch/>
        </p:blipFill>
        <p:spPr>
          <a:xfrm>
            <a:off x="755640" y="188640"/>
            <a:ext cx="758772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1619640" y="5949360"/>
            <a:ext cx="6264360" cy="719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1. Благодаря  вращению планеты вокруг своей оси – происходит смена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уток (утро, день, вечер, ночь).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3" descr="F:\img018.jpg"/>
          <p:cNvPicPr/>
          <p:nvPr/>
        </p:nvPicPr>
        <p:blipFill>
          <a:blip r:embed="rId1"/>
          <a:stretch/>
        </p:blipFill>
        <p:spPr>
          <a:xfrm>
            <a:off x="1691640" y="260640"/>
            <a:ext cx="60501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1258920" y="5589360"/>
            <a:ext cx="6841080" cy="1268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2. Благодаря  движению Земли вокруг Солнца меняются времена года.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утешествие вокруг Солнца занимает у Земли один год. 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ак начинается и заканчивается год. 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колько месяцев в году?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2" descr="F:\img017.jpg"/>
          <p:cNvPicPr/>
          <p:nvPr/>
        </p:nvPicPr>
        <p:blipFill>
          <a:blip r:embed="rId1"/>
          <a:stretch/>
        </p:blipFill>
        <p:spPr>
          <a:xfrm>
            <a:off x="0" y="1052640"/>
            <a:ext cx="918108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683640" y="5589360"/>
            <a:ext cx="7992720" cy="1700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3. Обернулась  Земля вокруг  Солнца один раз - прошел один год, потом второй раз обернулась – второй год прошел, третий,  т.д. седьмой…   А вы за эти годы – выросли.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коро вы пойдете в школу… Благодаря тому, что вы живете на планете Земля, вам предстоит пройти весь свой жизненный путь: от рождения до старости.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2" descr="C:\Users\Инна\Pictures\IMG_1307-cropped_jpg_scaled1000.jpg"/>
          <p:cNvPicPr/>
          <p:nvPr/>
        </p:nvPicPr>
        <p:blipFill>
          <a:blip r:embed="rId1"/>
          <a:stretch/>
        </p:blipFill>
        <p:spPr>
          <a:xfrm>
            <a:off x="0" y="0"/>
            <a:ext cx="2448000" cy="24930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C:\Users\Инна\Pictures\старость.jpg"/>
          <p:cNvPicPr/>
          <p:nvPr/>
        </p:nvPicPr>
        <p:blipFill>
          <a:blip r:embed="rId2"/>
          <a:stretch/>
        </p:blipFill>
        <p:spPr>
          <a:xfrm>
            <a:off x="6444360" y="2565000"/>
            <a:ext cx="2699280" cy="26992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C:\Users\Инна\Pictures\1308897226_10.jpg"/>
          <p:cNvPicPr/>
          <p:nvPr/>
        </p:nvPicPr>
        <p:blipFill>
          <a:blip r:embed="rId3"/>
          <a:stretch/>
        </p:blipFill>
        <p:spPr>
          <a:xfrm>
            <a:off x="755640" y="2709000"/>
            <a:ext cx="2376000" cy="23760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C:\Users\Инна\Pictures\150760233.jpg"/>
          <p:cNvPicPr/>
          <p:nvPr/>
        </p:nvPicPr>
        <p:blipFill>
          <a:blip r:embed="rId4"/>
          <a:stretch/>
        </p:blipFill>
        <p:spPr>
          <a:xfrm>
            <a:off x="3060000" y="332640"/>
            <a:ext cx="3672000" cy="20725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7" descr="C:\Users\Инна\Pictures\12_lushik.jpg"/>
          <p:cNvPicPr/>
          <p:nvPr/>
        </p:nvPicPr>
        <p:blipFill>
          <a:blip r:embed="rId5"/>
          <a:stretch/>
        </p:blipFill>
        <p:spPr>
          <a:xfrm>
            <a:off x="6986160" y="188640"/>
            <a:ext cx="2157480" cy="21574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C:\Users\Инна\Pictures\jennifer-lopez-0601.jpg"/>
          <p:cNvPicPr/>
          <p:nvPr/>
        </p:nvPicPr>
        <p:blipFill>
          <a:blip r:embed="rId6"/>
          <a:stretch/>
        </p:blipFill>
        <p:spPr>
          <a:xfrm>
            <a:off x="3780000" y="2565000"/>
            <a:ext cx="1985040" cy="26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7640" y="332640"/>
            <a:ext cx="4320000" cy="1151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 anchorCtr="1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b2b2b2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b2b2b2"/>
                </a:solidFill>
                <a:latin typeface="Arial"/>
              </a:rPr>
              <a:t>Посчитай</a:t>
            </a:r>
            <a:r>
              <a:rPr b="1" lang="ru-RU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b2b2b2"/>
                </a:solidFill>
                <a:latin typeface="Arial"/>
              </a:rPr>
              <a:t>скорей</a:t>
            </a:r>
            <a:r>
              <a:rPr b="1" lang="ru-RU" sz="2400" spc="-1" strike="noStrike">
                <a:solidFill>
                  <a:srgbClr val="b2b2b2"/>
                </a:solidFill>
                <a:latin typeface="Arial"/>
              </a:rPr>
              <a:t>»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0" y="620640"/>
            <a:ext cx="3744000" cy="6237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5 лет?       </a:t>
            </a:r>
            <a:endParaRPr b="0" lang="ru-RU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6 лет?</a:t>
            </a:r>
            <a:endParaRPr b="0" lang="ru-RU" sz="6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ru-RU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7лет?</a:t>
            </a:r>
            <a:endParaRPr b="0" lang="ru-RU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14-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ru-RU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ru-RU" sz="6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ru-RU" sz="6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ru-RU" sz="6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ru-RU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ru-RU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2421000"/>
            <a:ext cx="4114440" cy="3704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Если вам сейчас по семь лет – то сколько раз успела Земля обернуться вокруг Солнца ? /отсчет идет с вашего рождения/.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691640" y="6093360"/>
            <a:ext cx="6912360" cy="76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5. Во  Вселенной планета Земля не одна (Солнце - это огромная огненная 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везда и 9 планет: Меркурий, Венера, Земля, Марс, Юпитер, Сатурн, Уран, Нептун, Плутон).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2" descr="C:\Users\Инна\Pictures\Новая папка\Рисунок3.jpg"/>
          <p:cNvPicPr/>
          <p:nvPr/>
        </p:nvPicPr>
        <p:blipFill>
          <a:blip r:embed="rId1"/>
          <a:srcRect l="1090" t="1667" r="1046" b="1303"/>
          <a:stretch/>
        </p:blipFill>
        <p:spPr>
          <a:xfrm>
            <a:off x="0" y="0"/>
            <a:ext cx="9143640" cy="5926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2123640" y="6309360"/>
            <a:ext cx="5472360" cy="548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6.  У Земли есть спутник Луна.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Picture 2" descr="C:\Users\Инна\Pictures\Новая папка\Рисунок6.jpg"/>
          <p:cNvPicPr/>
          <p:nvPr/>
        </p:nvPicPr>
        <p:blipFill>
          <a:blip r:embed="rId1"/>
          <a:srcRect l="2288" t="1511" r="831" b="1139"/>
          <a:stretch/>
        </p:blipFill>
        <p:spPr>
          <a:xfrm>
            <a:off x="934920" y="0"/>
            <a:ext cx="8208720" cy="6180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C:\Users\Инна\Pictures\космонавт3.jpg"/>
          <p:cNvPicPr/>
          <p:nvPr/>
        </p:nvPicPr>
        <p:blipFill>
          <a:blip r:embed="rId1"/>
          <a:stretch/>
        </p:blipFill>
        <p:spPr>
          <a:xfrm>
            <a:off x="1187640" y="0"/>
            <a:ext cx="6923880" cy="60930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7640" y="6021360"/>
            <a:ext cx="8208720" cy="836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b2b2b2"/>
                </a:solidFill>
                <a:latin typeface="Arial"/>
              </a:rPr>
              <a:t>17. Для того чтобы исследовать космос - первыми отправили в полет собак: Белку и Стрелку. После полета они благополучно  вернулись на Землю.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6667200" cy="804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8. Юрий Алексеевич Гагарин. 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н был  первым космонавтом, который   совершил полет вокруг Земли на  космическом корабле (ракете ).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5" name="Picture 2" descr="C:\Users\Инна\Pictures\Новая папка\Рисунок1.jpg"/>
          <p:cNvPicPr/>
          <p:nvPr/>
        </p:nvPicPr>
        <p:blipFill>
          <a:blip r:embed="rId1"/>
          <a:stretch/>
        </p:blipFill>
        <p:spPr>
          <a:xfrm>
            <a:off x="683640" y="1845000"/>
            <a:ext cx="1833120" cy="1871280"/>
          </a:xfrm>
          <a:prstGeom prst="rect">
            <a:avLst/>
          </a:prstGeom>
          <a:ln w="9525">
            <a:noFill/>
          </a:ln>
        </p:spPr>
      </p:pic>
      <p:pic>
        <p:nvPicPr>
          <p:cNvPr id="366" name="Picture 4" descr="C:\Users\Инна\Pictures\Новая папка\Рисунок9.jpg"/>
          <p:cNvPicPr/>
          <p:nvPr/>
        </p:nvPicPr>
        <p:blipFill>
          <a:blip r:embed="rId2"/>
          <a:srcRect l="4797" t="3312" r="3411" b="5190"/>
          <a:stretch/>
        </p:blipFill>
        <p:spPr>
          <a:xfrm>
            <a:off x="7092360" y="1556640"/>
            <a:ext cx="1760040" cy="2592000"/>
          </a:xfrm>
          <a:prstGeom prst="rect">
            <a:avLst/>
          </a:prstGeom>
          <a:ln w="9525">
            <a:noFill/>
          </a:ln>
        </p:spPr>
      </p:pic>
      <p:pic>
        <p:nvPicPr>
          <p:cNvPr id="367" name="Picture 2" descr="C:\Users\Инна\Pictures\гагарин.jpg"/>
          <p:cNvPicPr/>
          <p:nvPr/>
        </p:nvPicPr>
        <p:blipFill>
          <a:blip r:embed="rId3"/>
          <a:stretch/>
        </p:blipFill>
        <p:spPr>
          <a:xfrm>
            <a:off x="2988000" y="188640"/>
            <a:ext cx="3744000" cy="510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47640" y="5877360"/>
            <a:ext cx="6840360" cy="64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marL="9144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b2b2b2"/>
                </a:solidFill>
                <a:latin typeface="Arial"/>
              </a:rPr>
              <a:t>1. Мы живем на планете Земля. Земля – это наш дом. Земля напоминает  форму шара.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2" descr="C:\Users\Инна\Pictures\земля 5.jpg"/>
          <p:cNvPicPr/>
          <p:nvPr/>
        </p:nvPicPr>
        <p:blipFill>
          <a:blip r:embed="rId1"/>
          <a:srcRect l="10154" t="0" r="10850" b="2856"/>
          <a:stretch/>
        </p:blipFill>
        <p:spPr>
          <a:xfrm>
            <a:off x="1763640" y="189000"/>
            <a:ext cx="6048000" cy="5544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457200" y="1434960"/>
            <a:ext cx="3007800" cy="4690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9. Главный конструктор  космического корабля (ракеты)  Сергей Павлович Королев. 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Picture 2" descr="C:\Users\Инна\Pictures\Новая папка\Рисунок10.jpg"/>
          <p:cNvPicPr/>
          <p:nvPr/>
        </p:nvPicPr>
        <p:blipFill>
          <a:blip r:embed="rId1"/>
          <a:srcRect l="1257" t="1677" r="1257" b="2012"/>
          <a:stretch/>
        </p:blipFill>
        <p:spPr>
          <a:xfrm>
            <a:off x="4500000" y="0"/>
            <a:ext cx="4643640" cy="3438000"/>
          </a:xfrm>
          <a:prstGeom prst="rect">
            <a:avLst/>
          </a:prstGeom>
          <a:ln w="9525">
            <a:noFill/>
          </a:ln>
        </p:spPr>
      </p:pic>
      <p:pic>
        <p:nvPicPr>
          <p:cNvPr id="370" name="Picture 2" descr="C:\Users\Инна\Pictures\сп королев.jpg"/>
          <p:cNvPicPr/>
          <p:nvPr/>
        </p:nvPicPr>
        <p:blipFill>
          <a:blip r:embed="rId2"/>
          <a:stretch/>
        </p:blipFill>
        <p:spPr>
          <a:xfrm>
            <a:off x="0" y="3446640"/>
            <a:ext cx="5900760" cy="34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179640" y="188640"/>
            <a:ext cx="3744000" cy="1800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0. Чтобы стать космонавтом  необходимо хорошо учиться, быть грамотным, заниматься спортом и иметь хорошее здоровье. 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ак проходит медицинское обследование перед полетом в космос.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2" descr="C:\Users\Инна\Pictures\Новая папка\Рисунок18.jpg"/>
          <p:cNvPicPr/>
          <p:nvPr/>
        </p:nvPicPr>
        <p:blipFill>
          <a:blip r:embed="rId1"/>
          <a:stretch/>
        </p:blipFill>
        <p:spPr>
          <a:xfrm>
            <a:off x="4212000" y="404640"/>
            <a:ext cx="4716720" cy="3783960"/>
          </a:xfrm>
          <a:prstGeom prst="rect">
            <a:avLst/>
          </a:prstGeom>
          <a:ln w="9525">
            <a:noFill/>
          </a:ln>
        </p:spPr>
      </p:pic>
      <p:pic>
        <p:nvPicPr>
          <p:cNvPr id="373" name="Picture 2" descr="C:\Users\Инна\Pictures\осмотр врачей.jpg"/>
          <p:cNvPicPr/>
          <p:nvPr/>
        </p:nvPicPr>
        <p:blipFill>
          <a:blip r:embed="rId2"/>
          <a:stretch/>
        </p:blipFill>
        <p:spPr>
          <a:xfrm>
            <a:off x="251640" y="1917000"/>
            <a:ext cx="3809520" cy="37810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C:\Users\Инна\Pictures\работа 3.jpg"/>
          <p:cNvPicPr/>
          <p:nvPr/>
        </p:nvPicPr>
        <p:blipFill>
          <a:blip r:embed="rId3"/>
          <a:stretch/>
        </p:blipFill>
        <p:spPr>
          <a:xfrm>
            <a:off x="4428000" y="4437000"/>
            <a:ext cx="4295880" cy="22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C:\Users\Инна\Pictures\Новая папка\Рисунок20.jpg"/>
          <p:cNvPicPr/>
          <p:nvPr/>
        </p:nvPicPr>
        <p:blipFill>
          <a:blip r:embed="rId1"/>
          <a:srcRect l="1754" t="1186" r="2844" b="669"/>
          <a:stretch/>
        </p:blipFill>
        <p:spPr>
          <a:xfrm>
            <a:off x="5148000" y="188640"/>
            <a:ext cx="3528000" cy="5486760"/>
          </a:xfrm>
          <a:prstGeom prst="rect">
            <a:avLst/>
          </a:prstGeom>
          <a:ln w="9525">
            <a:noFill/>
          </a:ln>
        </p:spPr>
      </p:pic>
      <p:pic>
        <p:nvPicPr>
          <p:cNvPr id="376" name="Picture 2" descr="C:\Users\Инна\Pictures\12983684596412trenirovkakosmonavtov4.jpg"/>
          <p:cNvPicPr/>
          <p:nvPr/>
        </p:nvPicPr>
        <p:blipFill>
          <a:blip r:embed="rId2"/>
          <a:stretch/>
        </p:blipFill>
        <p:spPr>
          <a:xfrm>
            <a:off x="755640" y="188640"/>
            <a:ext cx="3816720" cy="540036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3640" y="5718240"/>
            <a:ext cx="8229240" cy="1139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b2b2b2"/>
                </a:solidFill>
                <a:latin typeface="Arial"/>
              </a:rPr>
              <a:t>21. Так проходят тренировки космонавтов и идет отбор тех, кто полетит в космос ( умный,  сильный, физически выносливый, волевой, трудолюбивый,  находчивый). 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971640" y="5301360"/>
            <a:ext cx="3168000" cy="824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вая женщина – космонавт 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алентина Терешкова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860000" y="5301360"/>
            <a:ext cx="4283640" cy="1556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алентина Терешкова тренируется, готовится к полету.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22-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Picture 2" descr="C:\Users\Инна\Pictures\космонавт.jpg"/>
          <p:cNvPicPr/>
          <p:nvPr/>
        </p:nvPicPr>
        <p:blipFill>
          <a:blip r:embed="rId1"/>
          <a:stretch/>
        </p:blipFill>
        <p:spPr>
          <a:xfrm>
            <a:off x="251640" y="332640"/>
            <a:ext cx="4176000" cy="4813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C:\Users\Инна\Pictures\Новая папка\Рисунок4.jpg"/>
          <p:cNvPicPr/>
          <p:nvPr/>
        </p:nvPicPr>
        <p:blipFill>
          <a:blip r:embed="rId2"/>
          <a:stretch/>
        </p:blipFill>
        <p:spPr>
          <a:xfrm>
            <a:off x="4860000" y="404640"/>
            <a:ext cx="403200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788000" y="5445360"/>
            <a:ext cx="3600000" cy="503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 anchorCtr="1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b2b2b2"/>
                </a:solidFill>
                <a:latin typeface="Arial"/>
              </a:rPr>
              <a:t>Космонавт на Луне.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34960"/>
            <a:ext cx="3007800" cy="4690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3. Для работы в космосе необходимо иметь специальный костюм (скафандр, комбинезон, обувь, т.д.) Одежда должна быть удобной и практичной, со специальным оборудованием (рацией, с системой  жизнеобеспечения, т.д.)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Picture 2" descr="C:\Users\Инна\Pictures\Новая папка\Рисунок7.jpg"/>
          <p:cNvPicPr/>
          <p:nvPr/>
        </p:nvPicPr>
        <p:blipFill>
          <a:blip r:embed="rId1"/>
          <a:srcRect l="3585" t="1613" r="1772" b="1505"/>
          <a:stretch/>
        </p:blipFill>
        <p:spPr>
          <a:xfrm>
            <a:off x="4356000" y="404640"/>
            <a:ext cx="4329360" cy="4983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2700360" y="6165360"/>
            <a:ext cx="5903640" cy="692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4. В космосе космонавт должен быть готов к невесомости.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Picture 2" descr="C:\Users\Инна\Pictures\Новая папка\Рисунок16.jpg"/>
          <p:cNvPicPr/>
          <p:nvPr/>
        </p:nvPicPr>
        <p:blipFill>
          <a:blip r:embed="rId1"/>
          <a:srcRect l="1327" t="1786" r="605" b="3218"/>
          <a:stretch/>
        </p:blipFill>
        <p:spPr>
          <a:xfrm>
            <a:off x="395640" y="0"/>
            <a:ext cx="8388000" cy="6037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212000" y="1052640"/>
            <a:ext cx="4931640" cy="791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5. Вот так работают космонавты в открытом космосе (изучают планету, берут пробы грунта, пыли; фотографируют, т.д.).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Picture 2" descr="C:\Users\Инна\Pictures\Новая папка\Рисунок12.jpg"/>
          <p:cNvPicPr/>
          <p:nvPr/>
        </p:nvPicPr>
        <p:blipFill>
          <a:blip r:embed="rId1"/>
          <a:srcRect l="1115" t="1488" r="2254" b="1059"/>
          <a:stretch/>
        </p:blipFill>
        <p:spPr>
          <a:xfrm>
            <a:off x="3924000" y="2709000"/>
            <a:ext cx="5003640" cy="3781080"/>
          </a:xfrm>
          <a:prstGeom prst="rect">
            <a:avLst/>
          </a:prstGeom>
          <a:ln w="9525">
            <a:noFill/>
          </a:ln>
        </p:spPr>
      </p:pic>
      <p:pic>
        <p:nvPicPr>
          <p:cNvPr id="389" name="Picture 2" descr="C:\Users\Инна\Pictures\работа.jpg"/>
          <p:cNvPicPr/>
          <p:nvPr/>
        </p:nvPicPr>
        <p:blipFill>
          <a:blip r:embed="rId2"/>
          <a:stretch/>
        </p:blipFill>
        <p:spPr>
          <a:xfrm>
            <a:off x="179640" y="188640"/>
            <a:ext cx="3510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1792440" y="6021360"/>
            <a:ext cx="6883920" cy="836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6. Космонавты должны уметь работать на специальных установках. Работа космонавтов трудная, ответственная и опасная. В космосе космонавты  проводят эксперименты: выращивают грибы, пшеницу; Ими  был приобретен опыт по выращиванию цыплят в инкубаторе.  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Picture 2" descr="C:\Users\Инна\Pictures\Новая папка\Рисунок13.jpg"/>
          <p:cNvPicPr/>
          <p:nvPr/>
        </p:nvPicPr>
        <p:blipFill>
          <a:blip r:embed="rId1"/>
          <a:srcRect l="2482" t="1636" r="2482" b="1019"/>
          <a:stretch/>
        </p:blipFill>
        <p:spPr>
          <a:xfrm>
            <a:off x="2627640" y="260640"/>
            <a:ext cx="4248000" cy="5576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716000" y="188640"/>
            <a:ext cx="4427640" cy="136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 anchorCtr="1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1400" spc="-1" strike="noStrike">
                <a:solidFill>
                  <a:srgbClr val="b2b2b2"/>
                </a:solidFill>
                <a:latin typeface="Arial"/>
              </a:rPr>
              <a:t>27. Еда космонавтов находится в тюбиках и вакуумных упаковках - в жидком состоянии..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Picture 2" descr="C:\Users\Инна\Pictures\еда 2.jpg"/>
          <p:cNvPicPr/>
          <p:nvPr/>
        </p:nvPicPr>
        <p:blipFill>
          <a:blip r:embed="rId1"/>
          <a:stretch/>
        </p:blipFill>
        <p:spPr>
          <a:xfrm>
            <a:off x="179640" y="188640"/>
            <a:ext cx="4402080" cy="33015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C:\Users\Инна\Pictures\еда.jpg"/>
          <p:cNvPicPr/>
          <p:nvPr/>
        </p:nvPicPr>
        <p:blipFill>
          <a:blip r:embed="rId2"/>
          <a:stretch/>
        </p:blipFill>
        <p:spPr>
          <a:xfrm>
            <a:off x="4356000" y="3141000"/>
            <a:ext cx="4643640" cy="34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683640" y="6237360"/>
            <a:ext cx="7920360" cy="620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8. Так космонавты отдыхают и радуются тому, что их полет прошел успешно. Что они вернулись на землю  здоровыми и невредимыми.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Picture 2" descr="C:\Users\Инна\Pictures\Новая папка\Рисунок15.jpg"/>
          <p:cNvPicPr/>
          <p:nvPr/>
        </p:nvPicPr>
        <p:blipFill>
          <a:blip r:embed="rId1"/>
          <a:srcRect l="1179" t="1542" r="1412" b="938"/>
          <a:stretch/>
        </p:blipFill>
        <p:spPr>
          <a:xfrm>
            <a:off x="683640" y="0"/>
            <a:ext cx="7842960" cy="6120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6093360"/>
            <a:ext cx="7992360" cy="57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b2b2b2"/>
                </a:solidFill>
                <a:latin typeface="Arial"/>
              </a:rPr>
              <a:t>2. Земля единственная планета, на которой есть жизнь (солнце, воздух и вода).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1251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500" spc="-1" strike="noStrike">
              <a:solidFill>
                <a:srgbClr val="ffffff"/>
              </a:solidFill>
              <a:latin typeface="Arial"/>
            </a:endParaRPr>
          </a:p>
          <a:p>
            <a:pPr marL="1251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500" spc="-1" strike="noStrike">
              <a:solidFill>
                <a:srgbClr val="ffffff"/>
              </a:solidFill>
              <a:latin typeface="Arial"/>
            </a:endParaRPr>
          </a:p>
          <a:p>
            <a:pPr marL="1251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500" spc="-1" strike="noStrike">
              <a:solidFill>
                <a:srgbClr val="ffffff"/>
              </a:solidFill>
              <a:latin typeface="Arial"/>
            </a:endParaRPr>
          </a:p>
          <a:p>
            <a:pPr marL="1251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500" spc="-1" strike="noStrike">
              <a:solidFill>
                <a:srgbClr val="ffffff"/>
              </a:solidFill>
              <a:latin typeface="Arial"/>
            </a:endParaRPr>
          </a:p>
          <a:p>
            <a:pPr marL="1251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500" spc="-1" strike="noStrike">
              <a:solidFill>
                <a:srgbClr val="ffffff"/>
              </a:solidFill>
              <a:latin typeface="Arial"/>
            </a:endParaRPr>
          </a:p>
          <a:p>
            <a:pPr marL="1251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500" spc="-1" strike="noStrike">
              <a:solidFill>
                <a:srgbClr val="ffffff"/>
              </a:solidFill>
              <a:latin typeface="Arial"/>
            </a:endParaRPr>
          </a:p>
          <a:p>
            <a:pPr marL="1251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500" spc="-1" strike="noStrike">
              <a:solidFill>
                <a:srgbClr val="ffffff"/>
              </a:solidFill>
              <a:latin typeface="Arial"/>
            </a:endParaRPr>
          </a:p>
          <a:p>
            <a:pPr marL="1251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500" spc="-1" strike="noStrike">
              <a:solidFill>
                <a:srgbClr val="ffffff"/>
              </a:solidFill>
              <a:latin typeface="Arial"/>
            </a:endParaRPr>
          </a:p>
          <a:p>
            <a:pPr marL="1251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500" spc="-1" strike="noStrike">
              <a:solidFill>
                <a:srgbClr val="ffffff"/>
              </a:solidFill>
              <a:latin typeface="Arial"/>
            </a:endParaRPr>
          </a:p>
          <a:p>
            <a:pPr marL="1251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Все нужней, как никогда</a:t>
            </a:r>
            <a:br>
              <a:rPr sz="1500"/>
            </a:b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Солнце, воздух и вода.</a:t>
            </a:r>
            <a:br>
              <a:rPr sz="1500"/>
            </a:b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Без воды дряхлеет тело</a:t>
            </a:r>
            <a:br>
              <a:rPr sz="1500"/>
            </a:b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Солнце силу нам дает.</a:t>
            </a:r>
            <a:br>
              <a:rPr sz="1500"/>
            </a:b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Ну, а воздух, где б ты не был,</a:t>
            </a:r>
            <a:br>
              <a:rPr sz="1500"/>
            </a:b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Пищу мозгу подает.</a:t>
            </a:r>
            <a:br>
              <a:rPr sz="1500"/>
            </a:b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Вот и тянет нас из дома</a:t>
            </a:r>
            <a:br>
              <a:rPr sz="1500"/>
            </a:b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Той тропой, что нам знакома.</a:t>
            </a:r>
            <a:br>
              <a:rPr sz="1500"/>
            </a:b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Перелески, лес, поля.</a:t>
            </a:r>
            <a:br>
              <a:rPr sz="1500"/>
            </a:b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Живем, крутится земля! </a:t>
            </a:r>
            <a:endParaRPr b="0" lang="ru-RU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3" descr="C:\Users\Инна\Pictures\sun.gif"/>
          <p:cNvPicPr/>
          <p:nvPr/>
        </p:nvPicPr>
        <p:blipFill>
          <a:blip r:embed="rId1"/>
          <a:srcRect l="11742" t="15144" r="10961" b="14295"/>
          <a:stretch/>
        </p:blipFill>
        <p:spPr>
          <a:xfrm>
            <a:off x="1187280" y="345960"/>
            <a:ext cx="3455640" cy="3153960"/>
          </a:xfrm>
          <a:prstGeom prst="rect">
            <a:avLst/>
          </a:prstGeom>
          <a:ln w="9525">
            <a:noFill/>
          </a:ln>
        </p:spPr>
      </p:pic>
      <p:pic>
        <p:nvPicPr>
          <p:cNvPr id="313" name="Picture 4" descr="C:\Users\Инна\Pictures\вода.jpg"/>
          <p:cNvPicPr/>
          <p:nvPr/>
        </p:nvPicPr>
        <p:blipFill>
          <a:blip r:embed="rId2"/>
          <a:stretch/>
        </p:blipFill>
        <p:spPr>
          <a:xfrm>
            <a:off x="5651640" y="3357720"/>
            <a:ext cx="2364840" cy="2220480"/>
          </a:xfrm>
          <a:prstGeom prst="rect">
            <a:avLst/>
          </a:prstGeom>
          <a:ln w="9525">
            <a:noFill/>
          </a:ln>
        </p:spPr>
      </p:pic>
      <p:pic>
        <p:nvPicPr>
          <p:cNvPr id="314" name="Picture 5" descr="C:\Users\Инна\Pictures\воздух8.jpg"/>
          <p:cNvPicPr/>
          <p:nvPr/>
        </p:nvPicPr>
        <p:blipFill>
          <a:blip r:embed="rId3"/>
          <a:stretch/>
        </p:blipFill>
        <p:spPr>
          <a:xfrm>
            <a:off x="5580000" y="907920"/>
            <a:ext cx="2447640" cy="1836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428000" y="692640"/>
            <a:ext cx="4176000" cy="165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 anchorCtr="1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b2b2b2"/>
                </a:solidFill>
                <a:latin typeface="Arial"/>
              </a:rPr>
              <a:t>Освоение      космоса космонавтами - дает возможность людям на Земле:</a:t>
            </a: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420000" y="0"/>
            <a:ext cx="5112360" cy="2780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Использовать навигаторы,  для того, чтобы  можно легко ориентироваться на дорогах, т.д.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29-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251640" y="260640"/>
            <a:ext cx="3168000" cy="1068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. Знать о состоянии погоды 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 на длительный период времени).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Прямоугольник 4"/>
          <p:cNvSpPr/>
          <p:nvPr/>
        </p:nvSpPr>
        <p:spPr>
          <a:xfrm>
            <a:off x="251640" y="6453360"/>
            <a:ext cx="3240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Пользоваться сотовой связью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2" descr="C:\Users\Инна\Pictures\4bdec23121030b05bb8ba62e564dc6f9.jpg"/>
          <p:cNvPicPr/>
          <p:nvPr/>
        </p:nvPicPr>
        <p:blipFill>
          <a:blip r:embed="rId1"/>
          <a:stretch/>
        </p:blipFill>
        <p:spPr>
          <a:xfrm>
            <a:off x="539640" y="3933000"/>
            <a:ext cx="2764800" cy="24426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C:\Users\Инна\Pictures\Garmin_Dakota_20_big.jpg"/>
          <p:cNvPicPr/>
          <p:nvPr/>
        </p:nvPicPr>
        <p:blipFill>
          <a:blip r:embed="rId2"/>
          <a:stretch/>
        </p:blipFill>
        <p:spPr>
          <a:xfrm>
            <a:off x="5436000" y="2565000"/>
            <a:ext cx="1686960" cy="26823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C:\Users\Инна\Pictures\pc_capture20.gif"/>
          <p:cNvPicPr/>
          <p:nvPr/>
        </p:nvPicPr>
        <p:blipFill>
          <a:blip r:embed="rId3"/>
          <a:stretch/>
        </p:blipFill>
        <p:spPr>
          <a:xfrm>
            <a:off x="755640" y="836640"/>
            <a:ext cx="2185560" cy="29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568720" cy="2708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оздравляем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!</a:t>
            </a:r>
            <a:br>
              <a:rPr sz="4400"/>
            </a:b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ы награждаетесь дипломом за освоение курс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:</a:t>
            </a:r>
            <a:br>
              <a:rPr sz="4400"/>
            </a:b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“</a:t>
            </a:r>
            <a:r>
              <a:rPr b="0" i="1" lang="ru-RU" sz="4400" spc="-1" strike="noStrike">
                <a:solidFill>
                  <a:srgbClr val="b2b2b2"/>
                </a:solidFill>
                <a:latin typeface="Arial"/>
              </a:rPr>
              <a:t>Космос детям</a:t>
            </a:r>
            <a:r>
              <a:rPr b="0" i="1" lang="en-US" sz="4400" spc="-1" strike="noStrike">
                <a:solidFill>
                  <a:srgbClr val="b2b2b2"/>
                </a:solidFill>
                <a:latin typeface="Arial"/>
              </a:rPr>
              <a:t>”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Picture 2" descr="C:\Users\Инна\Pictures\диплом 3.jpg"/>
          <p:cNvPicPr/>
          <p:nvPr/>
        </p:nvPicPr>
        <p:blipFill>
          <a:blip r:embed="rId1"/>
          <a:stretch/>
        </p:blipFill>
        <p:spPr>
          <a:xfrm>
            <a:off x="3204000" y="2709000"/>
            <a:ext cx="2808000" cy="39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432720" cy="213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Спасибо за внимание!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Picture 2" descr="C:\Users\Инна\Pictures\космос детям.jpg"/>
          <p:cNvPicPr/>
          <p:nvPr/>
        </p:nvPicPr>
        <p:blipFill>
          <a:blip r:embed="rId1"/>
          <a:stretch/>
        </p:blipFill>
        <p:spPr>
          <a:xfrm>
            <a:off x="1259640" y="1772640"/>
            <a:ext cx="7134480" cy="4530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2195640" y="6021360"/>
            <a:ext cx="5341320" cy="431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3. Солнце дает нам свет и тепло.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Picture 3" descr="C:\Users\Инна\Pictures\sun.gif"/>
          <p:cNvPicPr/>
          <p:nvPr/>
        </p:nvPicPr>
        <p:blipFill>
          <a:blip r:embed="rId1"/>
          <a:srcRect l="10994" t="15958" r="13447" b="11238"/>
          <a:stretch/>
        </p:blipFill>
        <p:spPr>
          <a:xfrm>
            <a:off x="1692360" y="0"/>
            <a:ext cx="6192360" cy="5967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 anchorCtr="1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1400"/>
            </a:b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07640" y="6237360"/>
            <a:ext cx="5688360" cy="431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. Деревья выделяют кислород, которым мы дышим.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2" descr="C:\Users\Инна\Pictures\земля2.jpg"/>
          <p:cNvPicPr/>
          <p:nvPr/>
        </p:nvPicPr>
        <p:blipFill>
          <a:blip r:embed="rId1"/>
          <a:stretch/>
        </p:blipFill>
        <p:spPr>
          <a:xfrm>
            <a:off x="467640" y="188640"/>
            <a:ext cx="8022240" cy="5904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91640" y="5661360"/>
            <a:ext cx="5486040" cy="566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 anchorCtr="1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400" spc="-1" strike="noStrike">
                <a:solidFill>
                  <a:srgbClr val="b2b2b2"/>
                </a:solidFill>
                <a:latin typeface="Arial"/>
              </a:rPr>
              <a:t>5.  Благодаря водоемам - на планете Земля мы можем пить пресную воду.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Picture 2" descr="C:\Users\Инна\Pictures\thumbnai.jpg"/>
          <p:cNvPicPr/>
          <p:nvPr/>
        </p:nvPicPr>
        <p:blipFill>
          <a:blip r:embed="rId1"/>
          <a:stretch/>
        </p:blipFill>
        <p:spPr>
          <a:xfrm>
            <a:off x="3924000" y="1124640"/>
            <a:ext cx="4940640" cy="36723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C:\Users\Инна\Pictures\стакан.jpg"/>
          <p:cNvPicPr/>
          <p:nvPr/>
        </p:nvPicPr>
        <p:blipFill>
          <a:blip r:embed="rId2"/>
          <a:stretch/>
        </p:blipFill>
        <p:spPr>
          <a:xfrm>
            <a:off x="323640" y="1052640"/>
            <a:ext cx="345600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b2b2b2"/>
                </a:solidFill>
                <a:latin typeface="Arial"/>
              </a:rPr>
              <a:t>6. Поэтому на планете Земля живут: люди, животные, птицы, рыбы, насекомые.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Picture 2" descr="C:\Users\Инна\Pictures\животные13.jpg"/>
          <p:cNvPicPr/>
          <p:nvPr/>
        </p:nvPicPr>
        <p:blipFill>
          <a:blip r:embed="rId1"/>
          <a:stretch/>
        </p:blipFill>
        <p:spPr>
          <a:xfrm>
            <a:off x="3132000" y="1773360"/>
            <a:ext cx="2447640" cy="1800000"/>
          </a:xfrm>
          <a:prstGeom prst="rect">
            <a:avLst/>
          </a:prstGeom>
          <a:ln w="9525">
            <a:noFill/>
          </a:ln>
        </p:spPr>
      </p:pic>
      <p:pic>
        <p:nvPicPr>
          <p:cNvPr id="325" name="Picture 2" descr="C:\Users\Инна\Pictures\люди.jpg"/>
          <p:cNvPicPr/>
          <p:nvPr/>
        </p:nvPicPr>
        <p:blipFill>
          <a:blip r:embed="rId2"/>
          <a:stretch/>
        </p:blipFill>
        <p:spPr>
          <a:xfrm>
            <a:off x="468360" y="1484280"/>
            <a:ext cx="2518920" cy="1439640"/>
          </a:xfrm>
          <a:prstGeom prst="rect">
            <a:avLst/>
          </a:prstGeom>
          <a:ln w="9525">
            <a:noFill/>
          </a:ln>
        </p:spPr>
      </p:pic>
      <p:pic>
        <p:nvPicPr>
          <p:cNvPr id="326" name="Picture 3" descr="C:\Users\Инна\Pictures\птицы.jpg"/>
          <p:cNvPicPr/>
          <p:nvPr/>
        </p:nvPicPr>
        <p:blipFill>
          <a:blip r:embed="rId3"/>
          <a:stretch/>
        </p:blipFill>
        <p:spPr>
          <a:xfrm>
            <a:off x="5724360" y="1484280"/>
            <a:ext cx="3168360" cy="4520880"/>
          </a:xfrm>
          <a:prstGeom prst="rect">
            <a:avLst/>
          </a:prstGeom>
          <a:ln w="9525">
            <a:noFill/>
          </a:ln>
        </p:spPr>
      </p:pic>
      <p:pic>
        <p:nvPicPr>
          <p:cNvPr id="327" name="Picture 4" descr="C:\Users\Инна\Pictures\насекомые10.jpg"/>
          <p:cNvPicPr/>
          <p:nvPr/>
        </p:nvPicPr>
        <p:blipFill>
          <a:blip r:embed="rId4"/>
          <a:stretch/>
        </p:blipFill>
        <p:spPr>
          <a:xfrm>
            <a:off x="468360" y="3213000"/>
            <a:ext cx="2545920" cy="2800080"/>
          </a:xfrm>
          <a:prstGeom prst="rect">
            <a:avLst/>
          </a:prstGeom>
          <a:ln w="9525">
            <a:noFill/>
          </a:ln>
        </p:spPr>
      </p:pic>
      <p:pic>
        <p:nvPicPr>
          <p:cNvPr id="328" name="Picture 5" descr="C:\Users\Инна\Pictures\рыбы8.jpg"/>
          <p:cNvPicPr/>
          <p:nvPr/>
        </p:nvPicPr>
        <p:blipFill>
          <a:blip r:embed="rId5"/>
          <a:stretch/>
        </p:blipFill>
        <p:spPr>
          <a:xfrm>
            <a:off x="3203640" y="4005360"/>
            <a:ext cx="2376000" cy="1345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b2b2b2"/>
                </a:solidFill>
                <a:latin typeface="Arial"/>
              </a:rPr>
              <a:t>7. На планете Земля растут:  деревья, цветы, ягоды, грибы, т.д.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2" descr="C:\Users\Инна\Pictures\цветы.jpg"/>
          <p:cNvPicPr/>
          <p:nvPr/>
        </p:nvPicPr>
        <p:blipFill>
          <a:blip r:embed="rId1"/>
          <a:stretch/>
        </p:blipFill>
        <p:spPr>
          <a:xfrm>
            <a:off x="395280" y="4221000"/>
            <a:ext cx="2881080" cy="1925280"/>
          </a:xfrm>
          <a:prstGeom prst="rect">
            <a:avLst/>
          </a:prstGeom>
          <a:ln w="9525">
            <a:noFill/>
          </a:ln>
        </p:spPr>
      </p:pic>
      <p:pic>
        <p:nvPicPr>
          <p:cNvPr id="331" name="Picture 3" descr="C:\Users\Инна\Pictures\ягоды.jpg"/>
          <p:cNvPicPr/>
          <p:nvPr/>
        </p:nvPicPr>
        <p:blipFill>
          <a:blip r:embed="rId2"/>
          <a:stretch/>
        </p:blipFill>
        <p:spPr>
          <a:xfrm>
            <a:off x="3419640" y="2997360"/>
            <a:ext cx="2520720" cy="1890360"/>
          </a:xfrm>
          <a:prstGeom prst="rect">
            <a:avLst/>
          </a:prstGeom>
          <a:ln w="9525">
            <a:noFill/>
          </a:ln>
        </p:spPr>
      </p:pic>
      <p:pic>
        <p:nvPicPr>
          <p:cNvPr id="332" name="Picture 4" descr="C:\Users\Инна\Pictures\деревья14.jpg"/>
          <p:cNvPicPr/>
          <p:nvPr/>
        </p:nvPicPr>
        <p:blipFill>
          <a:blip r:embed="rId3"/>
          <a:stretch/>
        </p:blipFill>
        <p:spPr>
          <a:xfrm>
            <a:off x="468360" y="1628640"/>
            <a:ext cx="2808000" cy="2106360"/>
          </a:xfrm>
          <a:prstGeom prst="rect">
            <a:avLst/>
          </a:prstGeom>
          <a:ln w="9525">
            <a:noFill/>
          </a:ln>
        </p:spPr>
      </p:pic>
      <p:pic>
        <p:nvPicPr>
          <p:cNvPr id="333" name="Picture 5" descr="C:\Users\Инна\Pictures\грибы15.jpg"/>
          <p:cNvPicPr/>
          <p:nvPr/>
        </p:nvPicPr>
        <p:blipFill>
          <a:blip r:embed="rId4"/>
          <a:stretch/>
        </p:blipFill>
        <p:spPr>
          <a:xfrm>
            <a:off x="6084720" y="2349360"/>
            <a:ext cx="2663640" cy="3293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240" cy="1211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b2b2b2"/>
                </a:solidFill>
                <a:latin typeface="Arial"/>
              </a:rPr>
              <a:t>8. На планете Земля  имеются обширные леса, травянистые равнины,</a:t>
            </a:r>
            <a:br>
              <a:rPr sz="1400"/>
            </a:br>
            <a:r>
              <a:rPr b="0" lang="ru-RU" sz="1400" spc="-1" strike="noStrike">
                <a:solidFill>
                  <a:srgbClr val="b2b2b2"/>
                </a:solidFill>
                <a:latin typeface="Arial"/>
              </a:rPr>
              <a:t> высокие горы, жаркие пустыни. 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2" descr="C:\Users\Инна\Pictures\горы.jpg"/>
          <p:cNvPicPr/>
          <p:nvPr/>
        </p:nvPicPr>
        <p:blipFill>
          <a:blip r:embed="rId1"/>
          <a:stretch/>
        </p:blipFill>
        <p:spPr>
          <a:xfrm>
            <a:off x="6156360" y="1557360"/>
            <a:ext cx="2736360" cy="2050560"/>
          </a:xfrm>
          <a:prstGeom prst="rect">
            <a:avLst/>
          </a:prstGeom>
          <a:ln w="9525">
            <a:noFill/>
          </a:ln>
        </p:spPr>
      </p:pic>
      <p:pic>
        <p:nvPicPr>
          <p:cNvPr id="336" name="Picture 3" descr="C:\Users\Инна\Pictures\животные11.jpg"/>
          <p:cNvPicPr/>
          <p:nvPr/>
        </p:nvPicPr>
        <p:blipFill>
          <a:blip r:embed="rId2"/>
          <a:stretch/>
        </p:blipFill>
        <p:spPr>
          <a:xfrm>
            <a:off x="1258920" y="4221000"/>
            <a:ext cx="2952360" cy="1960200"/>
          </a:xfrm>
          <a:prstGeom prst="rect">
            <a:avLst/>
          </a:prstGeom>
          <a:ln w="9525">
            <a:noFill/>
          </a:ln>
        </p:spPr>
      </p:pic>
      <p:pic>
        <p:nvPicPr>
          <p:cNvPr id="337" name="Picture 4" descr="C:\Users\Инна\Pictures\лес16.jpg"/>
          <p:cNvPicPr/>
          <p:nvPr/>
        </p:nvPicPr>
        <p:blipFill>
          <a:blip r:embed="rId3"/>
          <a:stretch/>
        </p:blipFill>
        <p:spPr>
          <a:xfrm>
            <a:off x="395280" y="1484280"/>
            <a:ext cx="2808000" cy="2106360"/>
          </a:xfrm>
          <a:prstGeom prst="rect">
            <a:avLst/>
          </a:prstGeom>
          <a:ln w="9525">
            <a:noFill/>
          </a:ln>
        </p:spPr>
      </p:pic>
      <p:pic>
        <p:nvPicPr>
          <p:cNvPr id="338" name="Picture 5" descr="C:\Users\Инна\Pictures\равнина.jpg"/>
          <p:cNvPicPr/>
          <p:nvPr/>
        </p:nvPicPr>
        <p:blipFill>
          <a:blip r:embed="rId4"/>
          <a:stretch/>
        </p:blipFill>
        <p:spPr>
          <a:xfrm>
            <a:off x="3276720" y="1916280"/>
            <a:ext cx="2808000" cy="2101320"/>
          </a:xfrm>
          <a:prstGeom prst="rect">
            <a:avLst/>
          </a:prstGeom>
          <a:ln w="9525">
            <a:noFill/>
          </a:ln>
        </p:spPr>
      </p:pic>
      <p:pic>
        <p:nvPicPr>
          <p:cNvPr id="339" name="Picture 6" descr="C:\Users\Инна\Pictures\пустыня2.jpg"/>
          <p:cNvPicPr/>
          <p:nvPr/>
        </p:nvPicPr>
        <p:blipFill>
          <a:blip r:embed="rId5"/>
          <a:stretch/>
        </p:blipFill>
        <p:spPr>
          <a:xfrm>
            <a:off x="5219640" y="4221000"/>
            <a:ext cx="3096720" cy="1944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рбита">
  <a:themeElements>
    <a:clrScheme name="Орбита 1">
      <a:dk1>
        <a:srgbClr val="010199"/>
      </a:dk1>
      <a:lt1>
        <a:srgbClr val="ffffff"/>
      </a:lt1>
      <a:dk2>
        <a:srgbClr val="000000"/>
      </a:dk2>
      <a:lt2>
        <a:srgbClr val="b2b2b2"/>
      </a:lt2>
      <a:accent1>
        <a:srgbClr val="3399ff"/>
      </a:accent1>
      <a:accent2>
        <a:srgbClr val="666699"/>
      </a:accent2>
      <a:accent3>
        <a:srgbClr val="aaaaaa"/>
      </a:accent3>
      <a:accent4>
        <a:srgbClr val="dadada"/>
      </a:accent4>
      <a:accent5>
        <a:srgbClr val="adcaff"/>
      </a:accent5>
      <a:accent6>
        <a:srgbClr val="5c5c8a"/>
      </a:accent6>
      <a:hlink>
        <a:srgbClr val="ffffcc"/>
      </a:hlink>
      <a:folHlink>
        <a:srgbClr val="ffcc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рбита">
  <a:themeElements>
    <a:clrScheme name="Орбита 1">
      <a:dk1>
        <a:srgbClr val="010199"/>
      </a:dk1>
      <a:lt1>
        <a:srgbClr val="ffffff"/>
      </a:lt1>
      <a:dk2>
        <a:srgbClr val="000000"/>
      </a:dk2>
      <a:lt2>
        <a:srgbClr val="b2b2b2"/>
      </a:lt2>
      <a:accent1>
        <a:srgbClr val="3399ff"/>
      </a:accent1>
      <a:accent2>
        <a:srgbClr val="666699"/>
      </a:accent2>
      <a:accent3>
        <a:srgbClr val="aaaaaa"/>
      </a:accent3>
      <a:accent4>
        <a:srgbClr val="dadada"/>
      </a:accent4>
      <a:accent5>
        <a:srgbClr val="adcaff"/>
      </a:accent5>
      <a:accent6>
        <a:srgbClr val="5c5c8a"/>
      </a:accent6>
      <a:hlink>
        <a:srgbClr val="ffffcc"/>
      </a:hlink>
      <a:folHlink>
        <a:srgbClr val="ffcc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Орбита">
  <a:themeElements>
    <a:clrScheme name="Орбита 1">
      <a:dk1>
        <a:srgbClr val="010199"/>
      </a:dk1>
      <a:lt1>
        <a:srgbClr val="ffffff"/>
      </a:lt1>
      <a:dk2>
        <a:srgbClr val="000000"/>
      </a:dk2>
      <a:lt2>
        <a:srgbClr val="b2b2b2"/>
      </a:lt2>
      <a:accent1>
        <a:srgbClr val="3399ff"/>
      </a:accent1>
      <a:accent2>
        <a:srgbClr val="666699"/>
      </a:accent2>
      <a:accent3>
        <a:srgbClr val="aaaaaa"/>
      </a:accent3>
      <a:accent4>
        <a:srgbClr val="dadada"/>
      </a:accent4>
      <a:accent5>
        <a:srgbClr val="adcaff"/>
      </a:accent5>
      <a:accent6>
        <a:srgbClr val="5c5c8a"/>
      </a:accent6>
      <a:hlink>
        <a:srgbClr val="ffffcc"/>
      </a:hlink>
      <a:folHlink>
        <a:srgbClr val="ffcc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Орбита">
  <a:themeElements>
    <a:clrScheme name="Орбита 1">
      <a:dk1>
        <a:srgbClr val="010199"/>
      </a:dk1>
      <a:lt1>
        <a:srgbClr val="ffffff"/>
      </a:lt1>
      <a:dk2>
        <a:srgbClr val="000000"/>
      </a:dk2>
      <a:lt2>
        <a:srgbClr val="b2b2b2"/>
      </a:lt2>
      <a:accent1>
        <a:srgbClr val="3399ff"/>
      </a:accent1>
      <a:accent2>
        <a:srgbClr val="666699"/>
      </a:accent2>
      <a:accent3>
        <a:srgbClr val="aaaaaa"/>
      </a:accent3>
      <a:accent4>
        <a:srgbClr val="dadada"/>
      </a:accent4>
      <a:accent5>
        <a:srgbClr val="adcaff"/>
      </a:accent5>
      <a:accent6>
        <a:srgbClr val="5c5c8a"/>
      </a:accent6>
      <a:hlink>
        <a:srgbClr val="ffffcc"/>
      </a:hlink>
      <a:folHlink>
        <a:srgbClr val="ffcc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Орбита">
  <a:themeElements>
    <a:clrScheme name="Орбита 1">
      <a:dk1>
        <a:srgbClr val="010199"/>
      </a:dk1>
      <a:lt1>
        <a:srgbClr val="ffffff"/>
      </a:lt1>
      <a:dk2>
        <a:srgbClr val="000000"/>
      </a:dk2>
      <a:lt2>
        <a:srgbClr val="b2b2b2"/>
      </a:lt2>
      <a:accent1>
        <a:srgbClr val="3399ff"/>
      </a:accent1>
      <a:accent2>
        <a:srgbClr val="666699"/>
      </a:accent2>
      <a:accent3>
        <a:srgbClr val="aaaaaa"/>
      </a:accent3>
      <a:accent4>
        <a:srgbClr val="dadada"/>
      </a:accent4>
      <a:accent5>
        <a:srgbClr val="adcaff"/>
      </a:accent5>
      <a:accent6>
        <a:srgbClr val="5c5c8a"/>
      </a:accent6>
      <a:hlink>
        <a:srgbClr val="ffffcc"/>
      </a:hlink>
      <a:folHlink>
        <a:srgbClr val="ffcc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Орбита">
  <a:themeElements>
    <a:clrScheme name="Орбита 1">
      <a:dk1>
        <a:srgbClr val="010199"/>
      </a:dk1>
      <a:lt1>
        <a:srgbClr val="ffffff"/>
      </a:lt1>
      <a:dk2>
        <a:srgbClr val="000000"/>
      </a:dk2>
      <a:lt2>
        <a:srgbClr val="b2b2b2"/>
      </a:lt2>
      <a:accent1>
        <a:srgbClr val="3399ff"/>
      </a:accent1>
      <a:accent2>
        <a:srgbClr val="666699"/>
      </a:accent2>
      <a:accent3>
        <a:srgbClr val="aaaaaa"/>
      </a:accent3>
      <a:accent4>
        <a:srgbClr val="dadada"/>
      </a:accent4>
      <a:accent5>
        <a:srgbClr val="adcaff"/>
      </a:accent5>
      <a:accent6>
        <a:srgbClr val="5c5c8a"/>
      </a:accent6>
      <a:hlink>
        <a:srgbClr val="ffffcc"/>
      </a:hlink>
      <a:folHlink>
        <a:srgbClr val="ffcc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b2b2b2"/>
      </a:lt2>
      <a:accent1>
        <a:srgbClr val="3399ff"/>
      </a:accent1>
      <a:accent2>
        <a:srgbClr val="666699"/>
      </a:accent2>
      <a:accent3>
        <a:srgbClr val="aaaaaa"/>
      </a:accent3>
      <a:accent4>
        <a:srgbClr val="dadada"/>
      </a:accent4>
      <a:accent5>
        <a:srgbClr val="adcaff"/>
      </a:accent5>
      <a:accent6>
        <a:srgbClr val="5c5c8a"/>
      </a:accent6>
      <a:hlink>
        <a:srgbClr val="ffffcc"/>
      </a:hlink>
      <a:folHlink>
        <a:srgbClr val="ffcc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bit</Template>
  <TotalTime>1062</TotalTime>
  <Application>LibreOffice/7.4.7.2$Linux_X86_64 LibreOffice_project/40$Build-2</Application>
  <AppVersion>15.0000</AppVersion>
  <Words>736</Words>
  <Paragraphs>15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1T10:58:39Z</dcterms:created>
  <dc:creator>Инна</dc:creator>
  <dc:description/>
  <dc:language>en-US</dc:language>
  <cp:lastModifiedBy>Алеся</cp:lastModifiedBy>
  <dcterms:modified xsi:type="dcterms:W3CDTF">2020-04-09T16:01:35Z</dcterms:modified>
  <cp:revision>114</cp:revision>
  <dc:subject/>
  <dc:title>Мы живем на планете Земля. Земля – это наш дом. По форме планета круглая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32</vt:r8>
  </property>
</Properties>
</file>